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1C9-99F8-4D7B-A8C4-554D4731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1A1-C533-4415-B4BA-AD5B46DF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2AE-AA10-4218-B191-B39BA85C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0AA3-E929-4F50-9BA7-26A4E584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CFDA-BFE6-4B64-A963-88EAB5CC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3D05-D505-4894-B511-1B08E506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F792-D346-4C06-9342-42E81B64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083C-956B-477C-962B-F4BA0253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3EA3-F9D5-4FB1-9002-03617DAA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4F8D-D4D1-4E8C-BBE1-2843CB85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7F80-A274-4D3A-A80C-82ED687D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CB3-6EB3-466F-8B64-7BCF7ABA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5927-3520-49BE-84B3-ABCB567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3D11-F135-4701-AF63-294FF10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C9D6-FDED-4621-AB4E-F4DAB25B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C88C-61F8-4BD7-9969-EE4B2397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F0FE-484D-4C4E-B826-AF65A5A9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DEE-99E0-467D-BD18-F7A4532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685-940E-460D-B2A6-37E946A6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F97-610B-4FA3-8619-8C9A7B98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0B7-3E90-4178-BEC8-D99DED00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639-C959-4CEA-BD68-8F2E9B7B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70AA-41DD-41C9-9AE9-D2297270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5EE-D51C-4E9A-B770-9AF566D0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EAA9-A0B0-451B-9B02-708AF02BB0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317A-F5B9-49A4-9C21-4A2D4D995F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am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0000" y="836640"/>
            <a:ext cx="46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OTIMPUR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am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331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9054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8:59:47Z</dcterms:created>
  <dc:creator>AS</dc:creator>
  <dc:description/>
  <dc:language>en-US</dc:language>
  <cp:lastModifiedBy>AS</cp:lastModifiedBy>
  <dcterms:modified xsi:type="dcterms:W3CDTF">2010-01-05T19:56:25Z</dcterms:modified>
  <cp:revision>7</cp:revision>
  <dc:subject/>
  <dc:title>Diapozitivul 1</dc:title>
</cp:coreProperties>
</file>